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88E-DEF5-4234-921A-844AD627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398-36D7-4ACE-B330-D2825F5B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F90-6F7A-4CA2-9090-959E7BF9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7BD-2DBD-4FFE-A92F-D76B5EEC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56D-BE0B-41F7-8634-C4EC5A17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734-26FE-4193-97B8-D6857BFB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B1A-FEA5-4016-9C69-F128CF08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E8C-C85A-4B40-AD96-8BC438FD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E0B-5130-4496-A55E-A2AF1A88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611-0E4D-415F-AAE9-3DB1330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2DC-6027-4FE6-A78C-9AD7A63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C27-383A-4D59-90B0-535DE80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42D0-C6D7-4277-94BC-8804C2543EF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392040"/>
            <a:ext cx="8191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Introductio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to the “Cavities and vessels” session (</a:t>
            </a:r>
            <a:r>
              <a:rPr b="1" sz="1800" spc="-1" strike="noStrike">
                <a:solidFill>
                  <a:srgbClr val="0f07ff"/>
                </a:solidFill>
                <a:latin typeface="Times New Roman"/>
              </a:rPr>
              <a:t>by L. Mos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10’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esentation of the Laboratoire Souterrain de Modan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1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. Gerbier (Saclay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Large excavations in the USA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. Petersen (Minneapolis) talk presente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by Chang Kee Jung (Stony Br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0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Study on the Excavation of the Hyper-KAMIOKANDE Cavern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3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. Nakagawa (Tokyo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10h 40’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-------------------------------   Coffee break </a:t>
            </a: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(20’)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 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Large excavations in Europ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. Lévy (Par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Engineering of large and deep rock caverns for physics research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. Duffaut (Paris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2h 00’  Concluding Remarks of the Conference (20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K. Nakamura (KEK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4582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Candidate sites for future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of Very Large (“Megaton scale”)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Japa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YperKamioka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North Amer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cades-Icicle Creek, W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nderson Mine, Empire, CO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omestake Mine, Lead, SD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Kimballton Mine, Giles Co., V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an Jacinto, CA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oudan Mine, Soudan, MN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NOLAB, Sudbury, ONT (Canada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IPP, Carlsbad, NM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Europ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éjus tunnel (France/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land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-1790640" y="-573120"/>
          <a:ext cx="12725280" cy="800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90640" y="-573120"/>
                    <a:ext cx="12725280" cy="800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971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Gran Sa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29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dbur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733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Fréjus-L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) vs Depth (mwe) for already existing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105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124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ak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ouda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32907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Canfranc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413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Pyhäsalmi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09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Homes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2960" y="3962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oulb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90720" y="838080"/>
          <a:ext cx="7543800" cy="56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5438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9040" y="0"/>
            <a:ext cx="4711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0f07ff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) vs Depth (m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     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for 3 projects of future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(</a:t>
            </a:r>
            <a:r>
              <a:rPr b="1" sz="1400" spc="-1" strike="noStrike">
                <a:solidFill>
                  <a:srgbClr val="0f07ff"/>
                </a:solidFill>
                <a:latin typeface="Times New Roman"/>
              </a:rPr>
              <a:t>the already existing Labs are also shown for comparison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5440" y="23464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Y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2057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Fréjus-Memph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22096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120c"/>
                </a:solidFill>
                <a:latin typeface="Times New Roman"/>
              </a:rPr>
              <a:t>UNO-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8800" y="4191120"/>
            <a:ext cx="7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7480" y="5943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0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3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028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219320" y="4413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and HyperKamiok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040" y="841320"/>
            <a:ext cx="7657920" cy="5173560"/>
          </a:xfrm>
          <a:prstGeom prst="rect">
            <a:avLst/>
          </a:prstGeom>
          <a:ln w="19080">
            <a:solidFill>
              <a:srgbClr val="ff0c14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429000" y="2590920"/>
            <a:ext cx="1295280" cy="3047760"/>
          </a:xfrm>
          <a:prstGeom prst="line">
            <a:avLst/>
          </a:prstGeom>
          <a:ln w="38160">
            <a:solidFill>
              <a:srgbClr val="ff1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572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4680" y="2286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 CERN-Fréjus  MEMPHY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4320" y="914400"/>
            <a:ext cx="7513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, the</a:t>
            </a:r>
            <a:r>
              <a:rPr b="1" sz="2400" spc="-1" strike="noStrike">
                <a:solidFill>
                  <a:srgbClr val="ff120c"/>
                </a:solidFill>
                <a:latin typeface="Times New Roman"/>
              </a:rPr>
              <a:t> challeng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s no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find out the best site(s) wit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lativel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er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volum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megaton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  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venient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posit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long baseline) with respec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ccelerato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be able to 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excavat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 stabiliz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he ca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et us see with the talks of this session 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42:32Z</dcterms:created>
  <dc:creator>Luigi Mosca</dc:creator>
  <dc:description/>
  <dc:language>en-US</dc:language>
  <cp:lastModifiedBy>Luigi Mosca</cp:lastModifiedBy>
  <dcterms:modified xsi:type="dcterms:W3CDTF">2005-04-12T01:54:12Z</dcterms:modified>
  <cp:revision>62</cp:revision>
  <dc:subject/>
  <dc:title>Présentation PowerPoint</dc:title>
</cp:coreProperties>
</file>